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E4E8-F40E-482B-BA4C-A2672804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D81B-A4FB-4C19-B78E-37B23F8C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17FF-9B01-4558-B18E-D6EC011A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D0E9-FE6C-484D-B24B-045A2401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014-5409-4020-80C2-EACFC794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514F-4D43-4B1A-9EEC-96F123C9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6957-1C99-45FE-9F30-420F8907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5B6F-963E-4988-BC19-35B05039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F240-67D2-45C6-8DF0-401561CA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0FF-153B-4886-8FA5-B7C37A6B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006D-98D7-43AE-9C4E-021DCF61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6823-8095-409D-995C-26BCAB1E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FD08-262C-434A-AD14-A098E589B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БИОЛОШКИ НАП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иолошко оружје најприхватљивије за остваривање одређених војних циљ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ратегијских: слабљење одбрамбених потенцијала противника дејством на већим територијама, као и на стратегијски важним мес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актичких: применом биолошког оружја на мањим површинама ради заузимања одређених терито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азивање ескалације мањих суко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Одлука државе за примену биолошког оружј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извесност постизања жењених ефек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ална могућност губитка контроле над њима и појава непредљивих послед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ероватност примене биолошког оружј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ођење субверзивног 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изање политичких кр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Биолошко оруж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једине врсте се могу произвести и у најскромнијој микробиолошкој лаборатор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о од "средстава избора" за деловање терористичких организација и религијских секти у постизању одговарајућих политичко - пропагандних циљ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сигурност, узнемирење и паника међу становниш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ЖЕЉНЕ ОСОБИНЕ  И ВРСТЕ БИОЛОШКОГ ОРУЖ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јважније карактеристике патогеног микроорганизма или његовог продукта (токс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ојано изазивање жељеног еф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исока контагиоз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ојање више начина и путева заража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ла инфективна д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лативно кратак инкубациони пери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јважније карактеристике патогеног микроорганизма или његовог продукта (токс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ака и једноставна производ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абилност приликом производње, лагеровања и при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тежана детекција и идентифик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гућност заштите сопственог љу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Врсте биолошких агена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00000" y="1397160"/>
          <a:ext cx="7488360" cy="478620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оч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љењ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ктер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illus anthracis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р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bricele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уцелоз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Yersinia pestis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г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Vibrio cholerae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ер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Francisella tularensis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ларемиј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Burkholderia mallei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еус-сакагиј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Salmonella typhi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бушни тифу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Shigella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циларна дизентериј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 вариоле(велике богиње-вариола вера, вируси хеморагијских грозница(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ola, Marburg,Lassa, denga, Hantaan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вируси енцефалитиса, хепатитиса, жуте грозн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кец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iella burnetii(Q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озниц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Rickettsia prowazeki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гави тифу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очници рикецијалних богињ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оз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змодијуми(малариј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љив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cidioides immitis, Histoplasma capsulat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сини, продукти микроорганиза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тулотоксин, стафилококни ентеротоксин, афлатокс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хнологија рекомбинантне ДНК-"генетско инжењерство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акцине против заразних болести (непатогени сојев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варање биолошког оружја (повећање степена патогенос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Очекивани ефекат биолошког оружја на љу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1989000"/>
          <a:ext cx="8229600" cy="4052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си са леталним дејством, агенси који узрокују смртност преко 25% обилел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ућни антракс, плућна куга, хеморагичне грозниц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си за онеспособљавање, они који изазивају масовно обољење али са ниским леталитетом-1-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лмонелозе, колера, бациларна дизентер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си за узнемиравање, узрокују лакшу клиничку слику, обољење кратко трај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овање стафилококним ентеротоксин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иолошки напа (биолошка агресиј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ришћење биолошког оружја с циљем слабљења ратног потенцијала противника изазивањем масовног оболевања (умирања уништења)људи, домаћих животиња и корисног би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острано коришћење биолошког оружја страна које су у суко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иолошко оружје и способности ширења зараз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68360" y="19890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о контагиозне боле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луенца, плућни антракс и куга, варио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о контагиозне боле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бушни тифус, бациларна дизентер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нтагиозне боле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бовирусне инфекције, денга, бруцелоза, малар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иолошко оружје и дужина инкубационог пери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24000" y="1752480"/>
          <a:ext cx="8075520" cy="4525920"/>
        </p:xfrm>
        <a:graphic>
          <a:graphicData uri="http://schemas.openxmlformats.org/drawingml/2006/table">
            <a:tbl>
              <a:tblPr/>
              <a:tblGrid>
                <a:gridCol w="3960720"/>
                <a:gridCol w="4114800"/>
              </a:tblGrid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шки агенси са брзим дејством (оболевање у току 24 часа од примен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тулотоксин, стафилококни токсин, микотокси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шки агенси са успореним дејством (оболевање након 2-7дан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га, антракс, колера, туларемија, ден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шки агенси са брзим дејством (оболевање након 7дана од примен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бушни и пегави тифус, бруцелоза,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оз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иолошки агенси и дужина преживљавања у спољној сред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68360" y="184464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тпорни (1-3 сата у ваздуху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 инфлуенц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лативно отпорни (до 24 сат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очници колере, арбовироза,, туларемије, бруцелоз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ома отпорни (више дана,недеља, годин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очници антракса, куге,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озниц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ачини примене биолошког оруж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аз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лодари, муве, други биолошки век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Заштита од биолошког нап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куп мера од којих се већина користи у превенцији и сузбијању заразних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алност - спровођење мера постекспозицио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ајважније мере у борби против биолошког оруж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познавање биолошког напада и постављање клиничко-епидемиолошке дијагн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текција и идентификација биолошког аген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брињавање експонираних- оболелих и здрав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иолошка деконтамин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познавање биолошког напада и постављање клиничко-епидемиолошке дијагн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пидемиолошко испитивање са циљем прикупљања релевантних података који ће помоћи у детекцији биолошког нап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арактеристике епидемије које указују на употребу биолошког оруж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гла и неочекивана појава великог броја оболелих, независна од претходне епидемиолошке ситу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исока ушесталост оболевања и/или умирања у кратком временском пери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товремена инфекција оболелих са два или више узроч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арактеристике епидемије које указују на употребу биолошког оруж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уобичајена географска појава неке заразне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јава сезовских обољења у време када се она обично не регистру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уобичајени пут преноса, манифестације обољ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оболевања и угинуће ст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и о контаминацији ваздуха, воде, х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 основу водећих клиничких симптома и знакова болести утврдити клинички синд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ндром респираторног тра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ндром гастроинтестиналног тра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ндром централног нервног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ндром промена на кожи и видљивим слузниц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еморагијски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Биолошко оруж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икроорганизми или њихови токсини који се користе за вођење биолошког напада (ра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етекција и идентификација биолошког аген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276280"/>
            <a:ext cx="6394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зорци материј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Збрињавање експонираних- оболелих и здрав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129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дравствено и друго особље спроводи тасположиве мере медицинске и друго особљ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ецифична мера противбиолошке заш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Биолошка деконтамин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ре и поступци којима се уклањају или неутралишу патогени микроорганизми до степена елиминације ризика од настанка инф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Биолошка деконтамин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61927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лимич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тпу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евентивномедицинска заштита у ванредним ситуациј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Ванредна ситу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ненадна и неочекивана појава непогоде која може да угрози здравље и живот људи и да проузрокује материјалну штету већег об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анредни догађаји према узро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родне, елементарне непог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погоде које су последица људске а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епогоде према интензите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окална елементарна непогода мањих раз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погоде већих раз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лементарне несрећ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лементарне катастроф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пидемија заразне болести поприма размере елементарне несреће, катастрофе уколико се ради о епидем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шког заразног обољења са високим леталит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ју карактерише масовност и експлоз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ије су економске и друштвене последице вел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ју здравствена служба није  у стању да сузбије, постоји опасност од њеног ширења, чак и ван граница земљ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рганизација и спровођење превентивномедицинске заштите од елементарних несрећа и катастроф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2331720"/>
            <a:ext cx="82296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за припр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за интерв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обености биолошког оружја - особине које га чине атрактивним средством за слабљење одбрамбене снаге против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кономичност производње, 600 пута јефтиније од хемијског оружја, 800 пута од нуклеарног, а 2000 пута од класичног оруж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ецифичност и селективност дејства на њуде или одређене врсте животиња и биљака, без оштећења материјалних добара и без тежих еколошких послед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евенција и сузбијање заразних болести на угроженом подручј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јачан санитарни над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јачан епидемиолошки над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ре санитарног недзора н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одоснабдевањ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хра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тклањањемотпадних мат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мештајем љ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ооштрен епидемиолошки надз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д цревним и респираторним болес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акодневно извештавање о кретању заразних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роводити оне мере за које постоје индик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совна вакцинациј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асовна вакцинација није оправдана из више разл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лимична заштита против само једног обољ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ећај лажне сигурности код становништва, не предузимају се друге значајније м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нгажује се здравствено особље потребно за важније задат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евентивномедицинска заштита у ра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вентивномедицинска самозашт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пшти ниво превентивномедицинске зашти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ецијализовани ниво превентивномедицинске заш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исокоспецијализовани ниво превентивномедицинске заш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обености биолошког оружја - особине које га чине атрактивним средством за слабљење одбрамбене снаге против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гућност заштите сопствених снага уколико постоји ефикасна ваквина или специфични имуноглобулин против примењеног микроорганизма или токс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ајање дејства. Ефекат деловања биолошког агенса је, углавном, дужи у поређењу са другим врстама оружја, што је потенцирано и евентуалним накнадним ширењем инфекције са заражених на незаражене једи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обености биолошког оружја - особине које га чине атрактивним средством за слабљење одбрамбене снаге против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товтемена примена биолошког и хемијског или неке друге врсте оружја са изазивањем тежих последица него применом  једног од ових средст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кривена примена олакшана имитирањем "природног" настанка епидемије обољ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рактеристике биолошког оружја које ограничавају његову примену и ефикасност са војног асп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могућност потпуне контроле жељеног ефекта због непредвидивости манифестација епидемијског проц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висност од метеролошких услова и других фактора средине на територији на којој се примењује биолошко оруж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фекат деловања није тренутни, већ одложени, у зависности од дужине инкубационог периода појединих заразних бол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рактеристике биолошког оружја које ограничавају његову примену и ефикасност са војног асп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пасност од деловања биолошког агенса на сопствене снаге након запоседања територије, уколико не постоји ефикасно средство заш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висност командних структура у доношењу одлука од струшњака других профила због специфичности ове врсте оруж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потреба биолошког оружј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венција из 1972.године о одрицању од употребе биолошких агенаса од стране скоро свих земаља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06:00:07Z</dcterms:created>
  <dc:creator> </dc:creator>
  <dc:description/>
  <dc:language>en-US</dc:language>
  <cp:lastModifiedBy> </cp:lastModifiedBy>
  <dcterms:modified xsi:type="dcterms:W3CDTF">2015-09-11T11:26:43Z</dcterms:modified>
  <cp:revision>20</cp:revision>
  <dc:subject/>
  <dc:title>Slide 1</dc:title>
</cp:coreProperties>
</file>